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EA7-585D-443E-8716-13FFCBA3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6699-13A8-4A67-B9E3-860AB364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6A6-071E-4A60-8B5F-4DD61C68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6FA-0C62-41B0-8AF8-478EC2E2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748-F016-4B7D-A157-0A41C8ED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BED0-ADAA-4FEA-8AA2-6DD24443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F39-6BBD-4CAA-8A30-7C38D4E0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9E2-85CB-4CC5-BEA7-1C2F034D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1864-509A-4EE0-B0FF-DA6B7C54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9AE-4DE5-423A-9D9A-1A0B01DF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059-5964-47D9-B97D-2DA29836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18BE-F25F-4CDF-B165-D0E1FBE9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50F7-5BD1-4398-96AF-FCBBAFCA8E5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2"/>
          <p:cNvGrpSpPr/>
          <p:nvPr/>
        </p:nvGrpSpPr>
        <p:grpSpPr>
          <a:xfrm>
            <a:off x="571680" y="2757600"/>
            <a:ext cx="5934240" cy="3600000"/>
            <a:chOff x="571680" y="2757600"/>
            <a:chExt cx="5934240" cy="3600000"/>
          </a:xfrm>
        </p:grpSpPr>
        <p:sp>
          <p:nvSpPr>
            <p:cNvPr id="42" name="Oval 5"/>
            <p:cNvSpPr/>
            <p:nvPr/>
          </p:nvSpPr>
          <p:spPr>
            <a:xfrm>
              <a:off x="571680" y="3175560"/>
              <a:ext cx="3182400" cy="318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Oval 6"/>
            <p:cNvSpPr/>
            <p:nvPr/>
          </p:nvSpPr>
          <p:spPr>
            <a:xfrm>
              <a:off x="1940760" y="4507920"/>
              <a:ext cx="425160" cy="4251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" name="Group 10"/>
            <p:cNvGrpSpPr/>
            <p:nvPr/>
          </p:nvGrpSpPr>
          <p:grpSpPr>
            <a:xfrm>
              <a:off x="3665160" y="3509280"/>
              <a:ext cx="2840760" cy="334440"/>
              <a:chOff x="3665160" y="3509280"/>
              <a:chExt cx="2840760" cy="334440"/>
            </a:xfrm>
          </p:grpSpPr>
          <p:sp>
            <p:nvSpPr>
              <p:cNvPr id="45" name="Line 7"/>
              <p:cNvSpPr/>
              <p:nvPr/>
            </p:nvSpPr>
            <p:spPr>
              <a:xfrm flipV="1">
                <a:off x="3665160" y="3509280"/>
                <a:ext cx="416520" cy="33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Line 8"/>
              <p:cNvSpPr/>
              <p:nvPr/>
            </p:nvSpPr>
            <p:spPr>
              <a:xfrm>
                <a:off x="4081680" y="3509640"/>
                <a:ext cx="24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" name="Oval 9"/>
            <p:cNvSpPr/>
            <p:nvPr/>
          </p:nvSpPr>
          <p:spPr>
            <a:xfrm>
              <a:off x="1741680" y="3175560"/>
              <a:ext cx="82800" cy="828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" name="Group 11"/>
            <p:cNvGrpSpPr/>
            <p:nvPr/>
          </p:nvGrpSpPr>
          <p:grpSpPr>
            <a:xfrm>
              <a:off x="2410560" y="4345560"/>
              <a:ext cx="2840760" cy="334440"/>
              <a:chOff x="2410560" y="4345560"/>
              <a:chExt cx="2840760" cy="334440"/>
            </a:xfrm>
          </p:grpSpPr>
          <p:sp>
            <p:nvSpPr>
              <p:cNvPr id="49" name="Line 12"/>
              <p:cNvSpPr/>
              <p:nvPr/>
            </p:nvSpPr>
            <p:spPr>
              <a:xfrm flipV="1">
                <a:off x="2410560" y="4345560"/>
                <a:ext cx="416520" cy="33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Line 13"/>
              <p:cNvSpPr/>
              <p:nvPr/>
            </p:nvSpPr>
            <p:spPr>
              <a:xfrm>
                <a:off x="2827080" y="4345920"/>
                <a:ext cx="24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Group 14"/>
            <p:cNvGrpSpPr/>
            <p:nvPr/>
          </p:nvGrpSpPr>
          <p:grpSpPr>
            <a:xfrm>
              <a:off x="1909440" y="2757600"/>
              <a:ext cx="2840040" cy="334800"/>
              <a:chOff x="1909440" y="2757600"/>
              <a:chExt cx="2840040" cy="334800"/>
            </a:xfrm>
          </p:grpSpPr>
          <p:sp>
            <p:nvSpPr>
              <p:cNvPr id="52" name="Line 15"/>
              <p:cNvSpPr/>
              <p:nvPr/>
            </p:nvSpPr>
            <p:spPr>
              <a:xfrm flipV="1">
                <a:off x="1909440" y="2757600"/>
                <a:ext cx="416160" cy="33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Line 16"/>
              <p:cNvSpPr/>
              <p:nvPr/>
            </p:nvSpPr>
            <p:spPr>
              <a:xfrm>
                <a:off x="2325600" y="2757600"/>
                <a:ext cx="24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4" name="Text Box 17"/>
          <p:cNvSpPr/>
          <p:nvPr/>
        </p:nvSpPr>
        <p:spPr>
          <a:xfrm>
            <a:off x="214200" y="792000"/>
            <a:ext cx="839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ill in the following  expressions ! Put the word-boxes into the right position and  print out the worksheet 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227920" y="4248000"/>
            <a:ext cx="309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contains  of  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Calibri"/>
              </a:rPr>
              <a:t>and  ………………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5" descr="MCj03344660000[1]"/>
          <p:cNvPicPr/>
          <p:nvPr/>
        </p:nvPicPr>
        <p:blipFill>
          <a:blip r:embed="rId1"/>
          <a:stretch/>
        </p:blipFill>
        <p:spPr>
          <a:xfrm>
            <a:off x="7715160" y="357120"/>
            <a:ext cx="920880" cy="59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MCj03344660000[1]"/>
          <p:cNvPicPr/>
          <p:nvPr/>
        </p:nvPicPr>
        <p:blipFill>
          <a:blip r:embed="rId2"/>
          <a:stretch/>
        </p:blipFill>
        <p:spPr>
          <a:xfrm>
            <a:off x="8001000" y="5929200"/>
            <a:ext cx="920880" cy="594000"/>
          </a:xfrm>
          <a:prstGeom prst="rect">
            <a:avLst/>
          </a:prstGeom>
          <a:ln w="0">
            <a:noFill/>
          </a:ln>
        </p:spPr>
      </p:pic>
      <p:sp>
        <p:nvSpPr>
          <p:cNvPr id="58" name="Textfeld 20"/>
          <p:cNvSpPr/>
          <p:nvPr/>
        </p:nvSpPr>
        <p:spPr>
          <a:xfrm>
            <a:off x="3364560" y="214200"/>
            <a:ext cx="26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feld 21"/>
          <p:cNvSpPr/>
          <p:nvPr/>
        </p:nvSpPr>
        <p:spPr>
          <a:xfrm>
            <a:off x="4865400" y="1500120"/>
            <a:ext cx="158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tomic nucle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22"/>
          <p:cNvSpPr/>
          <p:nvPr/>
        </p:nvSpPr>
        <p:spPr>
          <a:xfrm>
            <a:off x="222120" y="1714680"/>
            <a:ext cx="1433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electron sh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feld 23"/>
          <p:cNvSpPr/>
          <p:nvPr/>
        </p:nvSpPr>
        <p:spPr>
          <a:xfrm>
            <a:off x="1859760" y="1643040"/>
            <a:ext cx="90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feld 24"/>
          <p:cNvSpPr/>
          <p:nvPr/>
        </p:nvSpPr>
        <p:spPr>
          <a:xfrm>
            <a:off x="7504920" y="1643040"/>
            <a:ext cx="1022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feld 26"/>
          <p:cNvSpPr/>
          <p:nvPr/>
        </p:nvSpPr>
        <p:spPr>
          <a:xfrm>
            <a:off x="3147840" y="1643040"/>
            <a:ext cx="104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2:48:51Z</dcterms:created>
  <dc:creator>s</dc:creator>
  <dc:description/>
  <dc:language>en-US</dc:language>
  <cp:lastModifiedBy>s</cp:lastModifiedBy>
  <dcterms:modified xsi:type="dcterms:W3CDTF">2010-01-04T17:00:09Z</dcterms:modified>
  <cp:revision>5</cp:revision>
  <dc:subject/>
  <dc:title>Folie 1</dc:title>
</cp:coreProperties>
</file>