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7A10-5879-4F02-8D3D-FB3D58597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3A4E-91F8-4EE2-B1B1-E7F4CBA79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956B-8DC0-4E53-9344-27B26960A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7AD1-85C8-411C-B433-FFE37C615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75CA-51DA-4ED1-8352-AC8A9D44B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0EFA-6641-413B-BDCA-7E9554BA8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19EE-D774-4DAF-9022-945A0C05B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6781-4BDC-4B4F-BD0E-6A1B3CFFC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5F9A-7B0C-4B96-A881-CA5405B74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1991-A90B-4FAA-A047-AFEFDEED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A059-18BA-4370-BBD2-8A4938C1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E77A-E1F3-4EE3-8930-8BA2978B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60D2D-B54F-4FBF-9971-F7732C71F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2520" y="1598760"/>
            <a:ext cx="5013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Elektronenkerne kreisen um den Kern, wie Planeten um die Sonne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Widerspruch: Elektronen verlieren Energie und stürzen in den K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23600" y="1046160"/>
            <a:ext cx="4728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Licht bzw. Energie wird nur in Portionen (Quanten) aufgenommen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  <a:ea typeface="Arial"/>
              </a:rPr>
              <a:t>→ ………</a:t>
            </a:r>
            <a:r>
              <a:rPr b="0" lang="de-AT" sz="1200" spc="-1" strike="noStrike">
                <a:solidFill>
                  <a:srgbClr val="000000"/>
                </a:solidFill>
                <a:latin typeface="Arial"/>
                <a:ea typeface="Arial"/>
              </a:rPr>
              <a:t>´sches Wirkungsquantum E= h*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ν</a:t>
            </a:r>
            <a:r>
              <a:rPr b="0" lang="de-A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16040" y="2241720"/>
            <a:ext cx="5858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Elektronen kreisen auf Bahnen um den Kern ohne Energie zu verl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Energie der e ist nur in bestimmten Portionen verfügb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eliebige Bahnänderungen sind nicht möglich, es müssen Quanten aufgenomm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oder abgegeben wer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20720" y="4863960"/>
            <a:ext cx="533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Ort und Impuls  eines Elektrons sind nicht beliebig genau ( und gleichzeiti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ngebbar“</a:t>
            </a:r>
            <a:r>
              <a:rPr b="0" lang="de-AT" sz="1200" spc="-1" strike="noStrike">
                <a:solidFill>
                  <a:srgbClr val="000000"/>
                </a:solidFill>
                <a:latin typeface="Arial"/>
                <a:ea typeface="Arial"/>
              </a:rPr>
              <a:t>→ ……………….. Unschärfere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27200" y="3736800"/>
            <a:ext cx="381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Elektronen besitzen Wellen- und Teilchen Charakter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21440" y="4195800"/>
            <a:ext cx="5417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ewegung der Elektronen kann mittels Wellenfunktion ( vgl. stehende Wel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eschrieben werden“ → …………………..-Gleichung H</a:t>
            </a:r>
            <a:r>
              <a:rPr b="0" lang="de-AT" sz="12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Ψ</a:t>
            </a:r>
            <a:r>
              <a:rPr b="0" lang="de-A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E*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liefert die Energiezustände des Elek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23600" y="5452920"/>
            <a:ext cx="548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„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Ψ</a:t>
            </a: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 ist proportional der Aufenthaltswahrscheinlichkeit eines Elektrons im Atom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44360" y="115920"/>
            <a:ext cx="32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200" spc="-1" strike="noStrike">
                <a:solidFill>
                  <a:srgbClr val="000000"/>
                </a:solidFill>
                <a:latin typeface="Arial"/>
              </a:rPr>
              <a:t>Atommodelle: Aufbau der Elektronenhü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0000" y="115236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9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" y="180036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9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" y="230508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9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0000" y="380376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9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0000" y="509904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9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0000" y="437976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9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11280" y="834840"/>
            <a:ext cx="1655640" cy="5689800"/>
            <a:chOff x="611280" y="834840"/>
            <a:chExt cx="1655640" cy="5689800"/>
          </a:xfrm>
        </p:grpSpPr>
        <p:sp>
          <p:nvSpPr>
            <p:cNvPr id="56" name=""/>
            <p:cNvSpPr/>
            <p:nvPr/>
          </p:nvSpPr>
          <p:spPr>
            <a:xfrm flipV="1">
              <a:off x="684360" y="907920"/>
              <a:ext cx="0" cy="561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11280" y="126684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11280" y="19162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11280" y="24195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11280" y="39322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11280" y="450864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11280" y="52279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26920" y="1051200"/>
              <a:ext cx="14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26920" y="1700280"/>
              <a:ext cx="14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26920" y="2275200"/>
              <a:ext cx="14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26920" y="3716640"/>
              <a:ext cx="14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26920" y="4292640"/>
              <a:ext cx="14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6920" y="4940280"/>
              <a:ext cx="14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26920" y="5443560"/>
              <a:ext cx="14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4360" y="6451920"/>
              <a:ext cx="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684360" y="83484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1985400" y="561960"/>
            <a:ext cx="563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Heisenberg (2x), Plank (2x), Rutherford, Bohr, Schrödinger(2x), De Broglie, Bo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5360" y="344520"/>
            <a:ext cx="813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Ordne jede  Endeckung/Erkenntnis einem Physiker zu und schreibe den Namen in das richtige Kästchen! (B.S.29-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956720" y="1268280"/>
            <a:ext cx="655560" cy="6908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8101080" y="5734080"/>
            <a:ext cx="655560" cy="690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2556000" y="6167520"/>
            <a:ext cx="655560" cy="6904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5435640" y="2997360"/>
            <a:ext cx="65556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2T19:53:23Z</dcterms:created>
  <dc:creator>bernhard</dc:creator>
  <dc:description/>
  <dc:language>en-US</dc:language>
  <cp:lastModifiedBy>bernhard</cp:lastModifiedBy>
  <dcterms:modified xsi:type="dcterms:W3CDTF">2008-10-02T20:39:17Z</dcterms:modified>
  <cp:revision>4</cp:revision>
  <dc:subject/>
  <dc:title>Folie 1</dc:title>
</cp:coreProperties>
</file>