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170-A0B0-4EDB-B640-BCF86F67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27B-2C85-486D-A6C5-DCE56C69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7D3-D5F7-4FED-B332-C2B96459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7C1-1B62-4BA4-8031-CA8B5E61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46-7BD5-4C75-A000-2F8EF890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E2C-13B7-4727-A883-06C7454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194-96BD-4189-B405-CC7C0723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F6B-5F1F-49D9-B9F2-9B7B921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6CC-430B-4C66-B4B2-E4B9FA9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5ED-31D1-4855-8956-6A0D6632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CC2-7401-4A25-AC13-69BAFBC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47E-4225-4B56-AEBD-FA5D23D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D11-4AEF-4965-83DA-D997FCD1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2520" y="1598760"/>
            <a:ext cx="501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kerne kreisen um den Kern, wie Planeten um die Sonn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derspruch: Elektronen verlieren Energie und stürzen in den K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0" y="1046160"/>
            <a:ext cx="47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cht bzw. Energie wird nur in Portionen (Quanten) aufgenomme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´sches Wirkungsquantum E= h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6040" y="2241720"/>
            <a:ext cx="58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kreisen auf Bahnen um den Kern ohne Energie zu verl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nergie der e ist nur in bestimmten Portionen verfüg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liebige Bahnänderungen sind nicht möglich, es müssen Quanten aufgenom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der abgegeben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0720" y="4863960"/>
            <a:ext cx="53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t und Impuls  eines Elektrons sind nicht beliebig genau ( und gleichzeiti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ngebbar“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……….. Unschärfe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373680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besitzen Wellen- und Teilchen Charakt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1440" y="4195800"/>
            <a:ext cx="541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wegung der Elektronen kann mittels Wellenfunktion ( vgl. stehende W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schrieben werden“ → …………………..-Gleichung H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*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efert die Energiezustände des Elek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0" y="5452920"/>
            <a:ext cx="54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ist proportional der Aufenthaltswahrscheinlichkeit eines Elektrons im Atom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360" y="115920"/>
            <a:ext cx="32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tommodelle: Aufbau der Elektronenhü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" y="1152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" y="1800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" y="2305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" y="380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" y="5099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4379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834840"/>
            <a:ext cx="1655640" cy="5689800"/>
            <a:chOff x="611280" y="834840"/>
            <a:chExt cx="1655640" cy="5689800"/>
          </a:xfrm>
        </p:grpSpPr>
        <p:sp>
          <p:nvSpPr>
            <p:cNvPr id="56" name=""/>
            <p:cNvSpPr/>
            <p:nvPr/>
          </p:nvSpPr>
          <p:spPr>
            <a:xfrm flipV="1">
              <a:off x="684360" y="907920"/>
              <a:ext cx="0" cy="56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280" y="1266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28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280" y="2419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280" y="4508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522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1051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70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920" y="2275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3716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4292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6920" y="494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544356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360" y="64519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84360" y="834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5400" y="561960"/>
            <a:ext cx="56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Heisenberg (2x), Plank (2x), Rutherford, Bohr, Schrödinger(2x), De Broglie,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344520"/>
            <a:ext cx="81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dne jede  Endeckung/Erkenntnis einem Physiker zu und schreibe den Namen in das richtige Kästchen! (B.S.29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56720" y="1268280"/>
            <a:ext cx="655560" cy="69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573408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616752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35640" y="2997360"/>
            <a:ext cx="6555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3:23Z</dcterms:created>
  <dc:creator>bernhard</dc:creator>
  <dc:description/>
  <dc:language>en-US</dc:language>
  <cp:lastModifiedBy>bernhard</cp:lastModifiedBy>
  <dcterms:modified xsi:type="dcterms:W3CDTF">2008-10-02T20:39:17Z</dcterms:modified>
  <cp:revision>4</cp:revision>
  <dc:subject/>
  <dc:title>Folie 1</dc:title>
</cp:coreProperties>
</file>