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F36-9616-494F-8117-97F7B697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AEC8-37D3-4AC9-9A02-7FC15C6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AF0-6DCB-4E1B-AAF3-6098B667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509-D1AE-4F40-B9A3-ED41B8C0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2D2-9182-4D2E-BEE6-44B1EEC7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53E-7BA7-46F3-8E78-C68FA6A8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2CA-1075-4AE5-8200-D27F21E4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FD1-8A2B-4BFC-94D6-CF289AA3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BD3-8AC4-4593-B816-E847227E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BB1-B117-4284-B613-AF5BDA3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063-9248-457C-993F-247CB92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4C7-5639-4CB2-9B62-11144423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99D4-D50F-4775-B464-49C7C417F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2520" y="1598760"/>
            <a:ext cx="501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kerne kreisen um den Kern, wie Planeten um die Sonn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Widerspruch: Elektronen verlieren Energie und stürzen in den K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0" y="1046160"/>
            <a:ext cx="472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cht bzw. Energie wird nur in Portionen (Quanten) aufgenomme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´sches Wirkungsquantum E= h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16040" y="2241720"/>
            <a:ext cx="58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kreisen auf Bahnen um den Kern ohne Energie zu verl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nergie der e ist nur in bestimmten Portionen verfüg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liebige Bahnänderungen sind nicht möglich, es müssen Quanten aufgenom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der abgegeben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0720" y="4863960"/>
            <a:ext cx="53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t und Impuls  eines Elektrons sind nicht beliebig genau ( und gleichzeiti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angebbar“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→ ……………….. Unschärfe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373680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Elektronen besitzen Wellen- und Teilchen Charakter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1440" y="4195800"/>
            <a:ext cx="541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wegung der Elektronen kann mittels Wellenfunktion ( vgl. stehende W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beschrieben werden“ → …………………..-Gleichung H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*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liefert die Energiezustände des Elek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23600" y="5452920"/>
            <a:ext cx="548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 ist proportional der Aufenthaltswahrscheinlichkeit eines Elektrons im Atom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4360" y="115920"/>
            <a:ext cx="32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200" spc="-1" strike="noStrike">
                <a:solidFill>
                  <a:srgbClr val="000000"/>
                </a:solidFill>
                <a:latin typeface="Arial"/>
              </a:rPr>
              <a:t>Atommodelle: Aufbau der Elektronenhü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" y="1152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" y="18003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" y="2305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" y="3803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" y="50990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43797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11280" y="834840"/>
            <a:ext cx="1655640" cy="5689800"/>
            <a:chOff x="611280" y="834840"/>
            <a:chExt cx="1655640" cy="5689800"/>
          </a:xfrm>
        </p:grpSpPr>
        <p:sp>
          <p:nvSpPr>
            <p:cNvPr id="56" name=""/>
            <p:cNvSpPr/>
            <p:nvPr/>
          </p:nvSpPr>
          <p:spPr>
            <a:xfrm flipV="1">
              <a:off x="684360" y="907920"/>
              <a:ext cx="0" cy="56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1280" y="12668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1280" y="1916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1280" y="2419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39322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1280" y="4508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1280" y="52279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6920" y="1051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6920" y="170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6920" y="227520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3716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6920" y="429264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6920" y="494028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920" y="5443560"/>
              <a:ext cx="14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360" y="645192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84360" y="834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85400" y="561960"/>
            <a:ext cx="563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Heisenberg (2x), Plank (2x), Rutherford, Bohr, Schrödinger(2x), De Broglie,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5360" y="344520"/>
            <a:ext cx="813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Ordne jede  Endeckung/Erkenntnis einem Physiker zu und schreibe den Namen in das richtige Kästchen! (B.S.29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956720" y="1268280"/>
            <a:ext cx="655560" cy="690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101080" y="573408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6167520"/>
            <a:ext cx="655560" cy="69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35640" y="2997360"/>
            <a:ext cx="6555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9:53:23Z</dcterms:created>
  <dc:creator>bernhard</dc:creator>
  <dc:description/>
  <dc:language>en-US</dc:language>
  <cp:lastModifiedBy>bernhard</cp:lastModifiedBy>
  <dcterms:modified xsi:type="dcterms:W3CDTF">2008-10-02T20:39:17Z</dcterms:modified>
  <cp:revision>4</cp:revision>
  <dc:subject/>
  <dc:title>Folie 1</dc:title>
</cp:coreProperties>
</file>