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96B-C6D3-4961-AC77-A7C2683F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7B5-0ADE-47C0-982E-28659BFF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4B8-77FB-4BA8-A195-FF2C2765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237-07C6-44C4-98B0-3F600865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E47A-C3DD-43C7-B27B-CF9F65F8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DA31-86BA-42A7-9D67-36D07030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CCA3-5171-4156-B470-E5B29164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4251-0107-40B8-A49E-1EAF7A6A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F20B-3757-4876-A3E0-5DD33499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145A-A8B7-4EE2-BAA1-891E586C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D86D-1E92-448B-8534-3163528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4A6-62B9-4A3B-89C0-10BF4E15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3758-333E-43B4-8EB2-2D6E54D8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C57F-7806-4CC8-A342-DEC12C39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E535-69C5-4ADB-9FD4-1333CA5C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ACC-29DE-4CCC-82F9-CC056BCB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2990-FECD-408D-9536-93C5EA4B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976-3622-4AFB-BBAC-AB3DC0B1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216-3CBF-405E-B23D-E0F31AF4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EF7-CCA7-4395-ACB6-42B05FF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FF8-A380-4321-AAC7-5C9AF199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040-B5B3-453E-A621-CE6B1CC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B97-FDA8-404C-84D6-2E5C8DFE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F85-3E40-489C-8703-2702599C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C255-EBD6-4014-8CD4-4EF6B6009F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00A4-4DA2-47CA-86B0-F1F0FBF1F0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6000" spc="-1" strike="noStrike" u="sng">
                <a:solidFill>
                  <a:srgbClr val="0000ff"/>
                </a:solidFill>
                <a:uFillTx/>
                <a:latin typeface="Arial"/>
              </a:rPr>
              <a:t>Chemical Bonding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i="1" lang="de-DE" sz="3600" spc="-1" strike="noStrike">
                <a:solidFill>
                  <a:srgbClr val="3399ff"/>
                </a:solidFill>
                <a:latin typeface="Arial"/>
              </a:rPr>
              <a:t> Atomic b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i="1" lang="de-DE" sz="3600" spc="-1" strike="noStrike">
                <a:solidFill>
                  <a:srgbClr val="3399ff"/>
                </a:solidFill>
                <a:latin typeface="Arial"/>
              </a:rPr>
              <a:t>Metallic bo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3399ff"/>
                </a:solidFill>
                <a:latin typeface="Arial"/>
              </a:rPr>
              <a:t>-Ionic b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Covalent bond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onding between two non-metall 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ased on the sharing of valence-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forms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Metallic </a:t>
            </a:r>
            <a:r>
              <a:rPr b="1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bo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8:23:49Z</dcterms:created>
  <dc:creator>riedlers01</dc:creator>
  <dc:description/>
  <dc:language>en-US</dc:language>
  <cp:lastModifiedBy>riedlers01</cp:lastModifiedBy>
  <dcterms:modified xsi:type="dcterms:W3CDTF">2010-01-25T08:49:37Z</dcterms:modified>
  <cp:revision>2</cp:revision>
  <dc:subject/>
  <dc:title>Chemical Bondings</dc:title>
</cp:coreProperties>
</file>