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441-081F-4D20-B426-554886AA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1CF-8607-4419-A1F1-1908BF0C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506-6A15-42E9-BDF6-095830EB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7BE-CF1C-4DF3-8E24-329E97D4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5B62-191E-45EC-9253-A3BFB459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F651-0AB9-4F64-98B3-4F94631B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C997-76DA-46D8-80F7-7022CA38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FF7C-0DAC-487B-8823-67F7D3B4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4775-D251-48E8-8319-ED927ACD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59F0-5947-4B65-A02D-680D91F4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6D09-ACE7-48D3-BCD6-47CD52F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DB9-E5C1-4B10-93B1-E7BB182B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C4C6-2657-4E1A-85DD-4E9CBC39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CDBE-B946-4B89-8409-D5397FA1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EA20-C411-4BA6-B2E9-34920EED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C625-50EA-4413-B517-DF1FB110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263E-8707-4215-879D-26A38514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C26-CD31-427A-99DA-847D0651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033-2EDE-4BFF-B43E-87540402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6B6-10E3-4ABE-B759-829DE791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940-050B-46AD-8190-5AE11F75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532-4ED1-4938-BC2C-85D9046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6BF-2640-46E8-9646-864EBDE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DFA-EA6D-47B8-AF8A-881749C6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633E-1CD0-48B3-BAE4-119B64939F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0CC8-7AAD-4744-9300-83EC0AA67C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6000" spc="-1" strike="noStrike" u="sng">
                <a:solidFill>
                  <a:srgbClr val="0000ff"/>
                </a:solidFill>
                <a:uFillTx/>
                <a:latin typeface="Arial"/>
              </a:rPr>
              <a:t>Chemical Bonding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i="1" lang="de-DE" sz="3600" spc="-1" strike="noStrike">
                <a:solidFill>
                  <a:srgbClr val="3399ff"/>
                </a:solidFill>
                <a:latin typeface="Arial"/>
              </a:rPr>
              <a:t> Atomic b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i="1" lang="de-DE" sz="3600" spc="-1" strike="noStrike">
                <a:solidFill>
                  <a:srgbClr val="3399ff"/>
                </a:solidFill>
                <a:latin typeface="Arial"/>
              </a:rPr>
              <a:t>Metallic bo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3399ff"/>
                </a:solidFill>
                <a:latin typeface="Arial"/>
              </a:rPr>
              <a:t>-Ionic b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Covalent bond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Bonding between two non-metall 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Based on the sharing of valence-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forms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Metallic </a:t>
            </a:r>
            <a:r>
              <a:rPr b="1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bo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8:23:49Z</dcterms:created>
  <dc:creator>riedlers01</dc:creator>
  <dc:description/>
  <dc:language>en-US</dc:language>
  <cp:lastModifiedBy>riedlers01</cp:lastModifiedBy>
  <dcterms:modified xsi:type="dcterms:W3CDTF">2010-01-25T08:49:37Z</dcterms:modified>
  <cp:revision>2</cp:revision>
  <dc:subject/>
  <dc:title>Chemical Bondings</dc:title>
</cp:coreProperties>
</file>