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EA4-D1F6-4AAA-99BE-38F2EED7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2AE-D46C-406E-9835-C333E510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E7A-3545-48CF-A3D0-5F4953FA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747-0ADD-4539-B30B-4965D10C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7A50-7F10-4F70-91E4-D1A339FB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180E-C546-4E37-BEBD-4361758F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857B-E1BD-4372-AB83-0E11AE13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C5A1-F91C-4C5D-817C-96ED27ED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5F38-0C75-4D9F-B7EE-0F98D0B7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96FB-03A8-48B3-8F26-543E70F1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B11A-D3FC-4736-A786-AF81C785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A3F-B4AD-4760-8552-69B45AB5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E127-930E-4524-86F3-AD9E2F3E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71EC-B2FA-4D95-A560-4C5D106B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AE2F-A86E-4620-B44E-074D17F5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3CDC-AEED-453D-8ADB-036BCC77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C2A3-DA3A-4DE3-9270-8260A230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D08-609B-44A6-8EE3-366FF07D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6C1-9420-4216-AA88-81C71334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CCE-B7AE-4854-8F35-306D2D3D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2E9-F184-41E9-B16C-6FA965B4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B98-3E37-4F33-9F5D-08AFB389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830E-B634-4C6D-8986-4837C7A0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EAF-F348-49A4-BCD5-3F040C6D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534B-5FDA-47CF-94B0-CA857BCAB4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A863-2918-4A5B-8A63-55A65F22A6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6000" spc="-1" strike="noStrike" u="sng">
                <a:solidFill>
                  <a:srgbClr val="0000ff"/>
                </a:solidFill>
                <a:uFillTx/>
                <a:latin typeface="Arial"/>
              </a:rPr>
              <a:t>Chemical Bonding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i="1" lang="de-DE" sz="3600" spc="-1" strike="noStrike">
                <a:solidFill>
                  <a:srgbClr val="3399ff"/>
                </a:solidFill>
                <a:latin typeface="Arial"/>
              </a:rPr>
              <a:t> Atomic bo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i="1" lang="de-DE" sz="3600" spc="-1" strike="noStrike">
                <a:solidFill>
                  <a:srgbClr val="3399ff"/>
                </a:solidFill>
                <a:latin typeface="Arial"/>
              </a:rPr>
              <a:t>Metallic bo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3399ff"/>
                </a:solidFill>
                <a:latin typeface="Arial"/>
              </a:rPr>
              <a:t>-Ionic bo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4400" spc="-1" strike="noStrike" u="sng">
                <a:solidFill>
                  <a:srgbClr val="0000ff"/>
                </a:solidFill>
                <a:uFillTx/>
                <a:latin typeface="Arial"/>
              </a:rPr>
              <a:t>Covalent bond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Bonding between two non-metall 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Based on the sharing of valence-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forms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4400" spc="-1" strike="noStrike" u="sng">
                <a:solidFill>
                  <a:srgbClr val="0000ff"/>
                </a:solidFill>
                <a:uFillTx/>
                <a:latin typeface="Arial"/>
              </a:rPr>
              <a:t>Metallic </a:t>
            </a:r>
            <a:r>
              <a:rPr b="1" i="1" lang="de-AT" sz="4400" spc="-1" strike="noStrike" u="sng">
                <a:solidFill>
                  <a:srgbClr val="0000ff"/>
                </a:solidFill>
                <a:uFillTx/>
                <a:latin typeface="Arial"/>
              </a:rPr>
              <a:t>bo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8:23:49Z</dcterms:created>
  <dc:creator>riedlers01</dc:creator>
  <dc:description/>
  <dc:language>en-US</dc:language>
  <cp:lastModifiedBy>riedlers01</cp:lastModifiedBy>
  <dcterms:modified xsi:type="dcterms:W3CDTF">2010-01-25T08:49:37Z</dcterms:modified>
  <cp:revision>2</cp:revision>
  <dc:subject/>
  <dc:title>Chemical Bondings</dc:title>
</cp:coreProperties>
</file>