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FDF9-7B4A-493A-B723-E5E486583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DC08-EF5E-4FBE-9B47-64668C2F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FD12-7165-431A-A2A6-2127A6D95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25C7-F949-4E1F-928A-D98CCF193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EFE3-477E-4C4F-AC8C-E2B54D7CF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7AC0-36FA-4D01-B5F9-907BE803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2993-94D5-4244-B50D-A39B8BBC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D133-D097-4B0C-B7F2-74F154D4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E30C-412E-405D-888B-7E02B380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8426-9924-444C-8826-6A6D9108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CDCB-BBAC-4E78-BB0B-407ADC6A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61EB-E765-4666-B890-A26EEB15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EFAE-E606-4537-A13D-4AB30B9F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90E3-F9EE-45FD-9071-63F40D96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CDE3-3B03-48E9-8477-C61A396A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9F97-8DB0-47E6-B265-175060FEF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E422-5E08-4758-9A9A-DC651EBB3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E638-6952-4832-BD11-7E9362AA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CEAF-A52F-4790-8E85-76F4E321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417A-C75E-4916-9B71-FDE135DE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4970-BD29-44E8-82FF-09C90F6D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AF71-ECAC-4E46-82EB-19ED7878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E9F7-7C78-4310-8832-2D9A6E90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7331-992B-4AF3-81F0-4F0EDCD6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6E38-AC8D-41D7-B422-8FA309EC47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103C-B200-4FFC-AB82-978C75949E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AT" sz="6000" spc="-1" strike="noStrike" u="sng">
                <a:solidFill>
                  <a:srgbClr val="0000ff"/>
                </a:solidFill>
                <a:uFillTx/>
                <a:latin typeface="Arial"/>
              </a:rPr>
              <a:t>Chemical Bondings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5892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3399ff"/>
                </a:solidFill>
                <a:latin typeface="Arial"/>
              </a:rPr>
              <a:t>-</a:t>
            </a:r>
            <a:r>
              <a:rPr b="1" i="1" lang="de-DE" sz="3600" spc="-1" strike="noStrike">
                <a:solidFill>
                  <a:srgbClr val="3399ff"/>
                </a:solidFill>
                <a:latin typeface="Arial"/>
              </a:rPr>
              <a:t> Atomic bo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3399ff"/>
                </a:solidFill>
                <a:latin typeface="Arial"/>
              </a:rPr>
              <a:t>-</a:t>
            </a:r>
            <a:r>
              <a:rPr b="1" i="1" lang="de-DE" sz="3600" spc="-1" strike="noStrike">
                <a:solidFill>
                  <a:srgbClr val="3399ff"/>
                </a:solidFill>
                <a:latin typeface="Arial"/>
              </a:rPr>
              <a:t>Metallic bo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3399ff"/>
                </a:solidFill>
                <a:latin typeface="Arial"/>
              </a:rPr>
              <a:t>-Ionic bo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4400" spc="-1" strike="noStrike" u="sng">
                <a:solidFill>
                  <a:srgbClr val="0000ff"/>
                </a:solidFill>
                <a:uFillTx/>
                <a:latin typeface="Arial"/>
              </a:rPr>
              <a:t>Covalent bond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Bonding between two non-metall at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Based on the sharing of valence-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forms 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4400" spc="-1" strike="noStrike" u="sng">
                <a:solidFill>
                  <a:srgbClr val="0000ff"/>
                </a:solidFill>
                <a:uFillTx/>
                <a:latin typeface="Arial"/>
              </a:rPr>
              <a:t>Metallic </a:t>
            </a:r>
            <a:r>
              <a:rPr b="1" i="1" lang="de-AT" sz="4400" spc="-1" strike="noStrike" u="sng">
                <a:solidFill>
                  <a:srgbClr val="0000ff"/>
                </a:solidFill>
                <a:uFillTx/>
                <a:latin typeface="Arial"/>
              </a:rPr>
              <a:t>bon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08:23:49Z</dcterms:created>
  <dc:creator>riedlers01</dc:creator>
  <dc:description/>
  <dc:language>en-US</dc:language>
  <cp:lastModifiedBy>riedlers01</cp:lastModifiedBy>
  <dcterms:modified xsi:type="dcterms:W3CDTF">2010-01-25T08:49:37Z</dcterms:modified>
  <cp:revision>2</cp:revision>
  <dc:subject/>
  <dc:title>Chemical Bondings</dc:title>
</cp:coreProperties>
</file>